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51D-F5E8-4B83-9FBA-A406FF39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9DA-AEBC-4282-82EB-403E1F6E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94EA-4721-4027-AFFC-8E14B9D0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9497A-A0CC-47D1-BCD6-5E5D613B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8F880-405D-45A8-9CB1-5C547376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EBD1E-CF64-4BCC-8381-E6FD798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AF180-2DD3-421F-B39F-98598AB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9286E-35EB-4B0B-9216-BD0BC72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DE649-BD85-47AD-B8C2-6253269D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63027-61B9-4DF5-8E68-207452D2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982E4-3BFD-47D9-A093-6C8FA975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6F54A-0703-4374-9923-DB5182B6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30F-578B-4D1E-B474-87EF476D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9C060-64BD-4891-92DA-3DB73185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4867F-ED2B-4715-B4AC-CD43249D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D75F4-1331-413C-9287-962BF583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D9B12-6118-4FAB-BAA9-24DCA03E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2A4F4-DB68-45DC-A980-AA0FA24B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4AB26-B69C-443A-BB84-2ADA65D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B879B-8119-4D4A-83E2-F39B844D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986AB-DE39-4BD8-AB11-E8A4C57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13C1C-510B-4F52-A7DC-8B0D3C32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6906B-23CA-465C-B96C-76719531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B57-6A8C-4A8B-8DB3-072B39AD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ACBC5-1E5F-4BA8-B60B-45FDF6FF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CE979-FDDA-4E3C-AFBE-CC60C640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3E6DD-4F3C-4775-9975-78E854A6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B5944-ED21-46DF-BB90-DF80F337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94D67-BB1D-4C89-B2F9-2246D0A4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4109-F312-445C-890C-F1F69F66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CE10D-7C41-4289-A857-7A75464D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DD120-C50B-4E10-A3C0-97166BD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8E923-AAD9-463C-9DF4-204BB109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C8E49-1449-438C-9F06-D671B6B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0DC1-C52A-4393-AE7B-E9E14C4E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A1A7A-172E-443E-BAE3-73633421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BB42A-1A58-4029-8E9E-3E2A396F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AEC4B-8CBC-4CFE-BE67-6844FD51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10CAC-FD6B-4C69-A68D-F20E9C31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CD0A8-2883-45AE-BBEC-D9741595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E28F7-B454-4ED6-AE42-DA77E6FD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3A5F4-BF88-47BF-9715-3B04AA01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D7540-2D07-4B7E-80BD-C7EBAFC2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2FF36-9F4B-4675-8BA4-A875CC53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5BC40-4F82-4387-8922-EE459DA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044-DC8D-480E-9216-21045C7D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7A122-91E8-4848-9831-D741B01A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407D3-C151-4B7E-90D9-E405F4DF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42E17-D834-406E-B3B2-7C3DBC6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7E013-90E0-4CB8-9F73-31FA6EB0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85ED9-D000-406C-B925-F5AA35FB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A85E-8D9E-463B-A4B7-8F85AF06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5BB-CBA0-45A2-8449-463A508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2455-0714-4C81-AA56-25AE8A4F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330B-A67E-4049-9BAF-4A6ACE48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069C-24B7-4EBD-9D34-13AE1CE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E34-241C-4E33-AAD1-DB405448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A8CC-F16D-421D-916F-9DF5062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A8B1-E79F-4DEC-A747-152C8AD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BE16-DC2E-4F4F-8801-D846D8A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BB9F-4065-4E44-9D61-2FCF042D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F29A-26A7-4DDD-A79A-8F4A2BCC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AD22-1E65-47A6-B5D3-87A5643D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9591-56F0-4DDB-87F6-A89DBD8C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8830-C3B3-4056-BD71-05292C06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1B11-5031-4117-A6DC-05816740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D7EB-0FC4-4A9B-826E-901C1A3A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A37-A80D-45E2-B9E8-E9B57715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9385-A755-425F-B628-CA16310C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AD39-75F3-492A-8E3E-D145535F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936F-0E1F-4AB9-92B7-96E71654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DD91-DCB3-4D51-8DE2-70DFADA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3C5C-8B78-4EDD-8621-FA724F2D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E613-5E80-41B6-9A3E-EE8F0FD6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CC43-7FE7-465B-B546-EF489280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B700-C231-47D2-B1F7-9F3940F7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4214-23FE-419E-9EFB-6E7A6F3F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411B-FD05-46DB-AB25-EAAE0283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E02-85E7-4996-A74B-D177B7F5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CE6D-C4F0-4421-9551-A45B1921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3310-7AC1-453D-8C50-FCF35714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FD84-F884-4C80-B864-03FF8C8B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8E6F-61D9-480C-A29F-57AA78F3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3BE5-ED33-4219-AD93-D7AA15B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185B7-843A-4A95-B98F-813FD2F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FCCC7-EF45-4C6C-87C1-BCDEDDAC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BC95-68E9-4D4F-9239-64BBDC49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8261-F6A0-4D71-BEDE-9E7B9BAB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A0EC-FB10-44A8-A119-1DC2D5EB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AAB-EB56-459A-BE50-FF9502DC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83A3-EFDF-47B0-8338-35537CB9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411F-8AB2-4038-875E-0C3D1447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ABBB-86CA-4726-9B1C-366207EA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44CB7-2C58-4525-8BED-31C8435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141C-FCBB-4569-80AF-FABDAE43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E0DC-D4BD-4D8B-B08C-F6B77EA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9716-89E0-4C23-80D3-7DE5CDB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F0E2-EC3F-4568-9BFA-03EEC5C4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4DED7-EC04-4B59-8B9A-414AB878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E4A2D-40F1-4D45-90A4-2E33483C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A16-A04A-42CB-9933-B2B19DDB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21E5-9C2B-408B-81D2-A46FCE27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C031-6759-49AE-8490-FF470A6E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7905-479B-4FD8-A5BA-1B929855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C27E-A858-4701-A6BD-E659EB7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19A3-03DB-4AAD-9C96-F37709B8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C2AC9-43CF-4F74-8FEC-1B230E61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E5385-C071-4159-8F52-C4F00C3E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430B0-340C-49AC-8FDF-805EFDF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3A81-929A-4166-81C3-8A048200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046F1-7EED-4ABF-8CA8-02777456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ED2-044D-44B1-A2E1-F9715DC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68983-F3EE-454A-A012-6076785D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AEB6D-AC84-4295-9E36-70F9B606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25990-0175-4614-9330-3ED2167C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469EA-D532-45FF-B972-D4026820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CFCE0-3C49-42E9-A796-8E774310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03E1C-19CC-4818-936C-05DC071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9E19E-4E02-4AC4-902D-722D1F91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6074-2D0C-421B-B4CA-0341E0FD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CA5D1-0BF9-4B08-951B-252A465B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62C8-AEE6-4880-952F-9331C80A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354-16BE-4616-893D-B280381E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9173-183B-4C54-9F69-1122CB21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AF91-9C76-4AE4-850B-D087953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17D0-EF62-45FE-8599-BF60CDB8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39F7-296F-4774-B0E1-67399A97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F7EE4-4348-4BB2-873B-7F2E369B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506A-873C-4A05-B21C-E133FD09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2915E-37FD-411F-8E78-E66E9192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D53B-BB29-461B-B11E-8087868F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A09EF-D79A-46A7-9BF1-691FCD34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95236-E24F-42B0-B22C-18F71182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953-17FC-4E37-9E0B-AF90571E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EE650-9040-4179-A196-9E404331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CB189-367B-4CCF-9F33-1017A96B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D5471-B9DD-47F3-9291-ADCABA0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728E6-91A2-429B-BB0F-70E7205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A432-6C1E-4FC6-B6FE-D03CF015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85E5-25ED-4995-998B-C71A9EE8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3AEA-BB40-4CFE-B849-0C3DDDE7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73DE8-83D5-4FF0-BD6E-67123D27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3E683-F0F8-4254-83B9-3769E165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9089A-F62E-4268-92D8-4B624C6E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B45-9B2E-4233-8055-B7ED8EAE04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622F-53AB-41BC-AAAE-85A70B7F37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0F3F-5921-43C1-8AEE-3AB0F2045B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CDDC-926A-489F-AF2B-A359220B05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88F2-9540-452E-9E0B-B4F5E04644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65E1-943D-45AA-903D-C3CA84A6FF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D38B-E8D4-435C-8EEF-07BD4F7A36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111B-D7A7-4D48-9744-570F9726BC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3C7F-9DCC-4596-AD92-6B0FAC0359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DD1-A435-4F54-992E-6D31335755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8802-77F1-4056-A68D-8CBB6352D2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2B0-ED85-4391-9A2B-BF9BEF0485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4 Strážny, volaj z plnej 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restávaj var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ľudia uveri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im Pán chce spásu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dolím, cez vrchy strá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naž sa tú zvesť zvučne 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siluj sa odhodl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Ježišovi všetkých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Pánovi pozývaj stál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iednych, hriechom zranen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mu veď aj deti mal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pených a znave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ležitú správu hlá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o čuje celý svet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naša spá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už skoro príde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naša spása 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57:58Z</dcterms:modified>
  <cp:revision>38</cp:revision>
  <dc:subject/>
  <dc:title>Je veľký náš Pán, on slávy je Kráľ Nech do všetkých strán  spev vrúcnych znie chvál.</dc:title>
</cp:coreProperties>
</file>